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1004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1004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BF4554C-F953-4A03-8174-B7BF1B040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F5FC19E-4E24-46DB-8BD5-4AC13E04E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08B6E90-78B8-4BE6-B0B4-B3A8BF60D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2458D94-45FE-434D-9C57-1CFF3DC32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EB1784A-D74F-4C5C-8BBB-5AF3184AD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C7E0F2-8AC9-4CBF-B57F-A59C72469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C692561-DD5D-4137-A6C6-C0E97711D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F01B268-BC38-4F94-8412-46602BAA9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A7D0213-7E54-4D05-84BA-417903E6B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7916F06-1BB6-4926-A3B9-50D6B16A9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2ACC5F-25BA-4EA1-8575-2ABBDF4EB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F12903B-A0F0-4DCF-AD98-37255A47C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28C0FA5-07C9-4965-BE39-B12888D4D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E70C91F-5EC8-40BA-B956-E4FF69676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35BEE18-0DE4-4EA3-8F7B-47D5802AC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62AD-F258-4C76-854F-E1351B41D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D2C5-07E2-4DC1-A351-07DE20C1E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5A7B-90F8-4060-AFD9-5C8A0DB1C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D4E1-4507-445C-8CCF-6B474B0091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1D4D-2BFB-4409-80BE-7471789490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4718-0B9B-499B-A3E3-D81356238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3C0F-FCE5-4686-B32F-160669F76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BF46-65C3-4586-B245-EE3E5E564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AF70-15E3-4873-BDAF-2F70770FC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7175-4C79-4CCD-B12F-CD9A1F196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483B-A1C1-4CAE-A7AF-84CC7CF0F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54EB-7429-4240-80F0-AC4A7C512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E639-4043-4DC4-A032-6A84C46C3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B7D5-A510-47AA-B40E-552F0DB9C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Perform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ough Training and Development, 5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Presentation prepa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cey Starrett, M. Ed, CH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chool of Human Resource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rk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A2F3-E98F-4D64-B2E1-F4D49E3BD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Employe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in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knowledge &amp; skills, higher self-efficacy, feel more useful, have more positive attitudes towards their job an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in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earnings, more marketable, greater job security, and enhanced promotion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CDD3-3124-4468-9BC4-F327200DA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57360"/>
            <a:ext cx="5567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Societal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ed popul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s to create educated and skilled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of liv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ant on productivity and productivity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-10.jpg"/>
          <p:cNvPicPr/>
          <p:nvPr/>
        </p:nvPicPr>
        <p:blipFill>
          <a:blip r:embed="rId1"/>
          <a:stretch/>
        </p:blipFill>
        <p:spPr>
          <a:xfrm>
            <a:off x="5214960" y="17146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7943-BF61-483A-8ADF-079C03AE8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pSp>
        <p:nvGrpSpPr>
          <p:cNvPr id="104" name="Diagram 5"/>
          <p:cNvGrpSpPr/>
          <p:nvPr/>
        </p:nvGrpSpPr>
        <p:grpSpPr>
          <a:xfrm>
            <a:off x="2935440" y="1844640"/>
            <a:ext cx="3906720" cy="3368880"/>
            <a:chOff x="2935440" y="1844640"/>
            <a:chExt cx="3906720" cy="3368880"/>
          </a:xfrm>
        </p:grpSpPr>
        <p:sp>
          <p:nvSpPr>
            <p:cNvPr id="105" name="_s2052"/>
            <p:cNvSpPr/>
            <p:nvPr/>
          </p:nvSpPr>
          <p:spPr>
            <a:xfrm>
              <a:off x="2935440" y="2789280"/>
              <a:ext cx="2424240" cy="2424240"/>
            </a:xfrm>
            <a:prstGeom prst="donut">
              <a:avLst>
                <a:gd name="adj" fmla="val 1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3"/>
            <p:cNvSpPr/>
            <p:nvPr/>
          </p:nvSpPr>
          <p:spPr>
            <a:xfrm>
              <a:off x="6196320" y="29210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etal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2054"/>
            <p:cNvSpPr/>
            <p:nvPr/>
          </p:nvSpPr>
          <p:spPr>
            <a:xfrm>
              <a:off x="3338640" y="3192480"/>
              <a:ext cx="1616040" cy="161604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2055"/>
            <p:cNvSpPr/>
            <p:nvPr/>
          </p:nvSpPr>
          <p:spPr>
            <a:xfrm>
              <a:off x="6196320" y="23828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ganization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6"/>
            <p:cNvSpPr/>
            <p:nvPr/>
          </p:nvSpPr>
          <p:spPr>
            <a:xfrm>
              <a:off x="3743640" y="3597120"/>
              <a:ext cx="807840" cy="808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2057"/>
            <p:cNvSpPr/>
            <p:nvPr/>
          </p:nvSpPr>
          <p:spPr>
            <a:xfrm>
              <a:off x="6196320" y="18446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ee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A6D0-0B51-4773-899A-2BF225D2A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in Canada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hours of training: 25/year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expenditure $852/employee (2006) down slightly from $914 in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annual training expenditure: $4.9 million across all industries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FB1E-3623-47D5-90D7-4DEE391A5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vestment or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xpense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31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ranks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 of 60 countries in ranking of employee training as a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cost or expense results in limited/required 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investment is part of organization’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n five companies invests more than 3% of payroll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iabank = $47m, BMO = $1800/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E736-EA0B-42E5-A9F3-66D3A4629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Quebec Training Law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d in 1995  - “1% or training 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ayroll training tax 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$1m invest minimum 1% or pay equivalent to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report on impact of la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effect on way training is structured, organized and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rates incr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llaboration in promoting learn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ffect on medium sized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B95C-7AD7-4205-9276-3EC60D554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26" name="Picture 4" descr="F1-1"/>
          <p:cNvPicPr/>
          <p:nvPr/>
        </p:nvPicPr>
        <p:blipFill>
          <a:blip r:embed="rId1"/>
          <a:stretch/>
        </p:blipFill>
        <p:spPr>
          <a:xfrm>
            <a:off x="228600" y="144792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E215-7B57-4E5E-8532-6EDBE33FB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 compet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bour mark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 cl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1-16.jpg"/>
          <p:cNvPicPr/>
          <p:nvPr/>
        </p:nvPicPr>
        <p:blipFill>
          <a:blip r:embed="rId1"/>
          <a:stretch/>
        </p:blipFill>
        <p:spPr>
          <a:xfrm>
            <a:off x="5357880" y="2071800"/>
            <a:ext cx="32860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0539-43F6-46FC-B7A5-15D542912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Organization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1-17.jpg"/>
          <p:cNvPicPr/>
          <p:nvPr/>
        </p:nvPicPr>
        <p:blipFill>
          <a:blip r:embed="rId1"/>
          <a:stretch/>
        </p:blipFill>
        <p:spPr>
          <a:xfrm>
            <a:off x="4357800" y="2286000"/>
            <a:ext cx="29653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EBBD-FD50-4AB2-9FB0-02AEE31D8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Human Resources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unctional areas of HR work together to create an H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n by organizational strategy and SH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at constitutes a High Performance Work System (HP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to a Strategic Model of Trai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E81D-7732-4915-A778-EF101D3FE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On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Training and Development Pro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1-1.jpg"/>
          <p:cNvPicPr/>
          <p:nvPr/>
        </p:nvPicPr>
        <p:blipFill>
          <a:blip r:embed="rId1"/>
          <a:stretch/>
        </p:blipFill>
        <p:spPr>
          <a:xfrm>
            <a:off x="3643200" y="3500280"/>
            <a:ext cx="2041560" cy="26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AC94-CE05-46D7-B61E-4A07D0189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Strategic Model of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Training &amp;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strategy will influence the HRM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in turn, the HRM strategy will influence the strategy for learn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ads to the decisions on the type of training and development activities and programs that will be necess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depicted in Fig. 1.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395A-CA21-4981-BA8D-EA039016F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Strategic Model of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Training &amp;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76720" y="1916280"/>
            <a:ext cx="293040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4572000" y="355284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367920" y="569916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Figure 1.2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3276720" y="2952720"/>
            <a:ext cx="293040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M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413080" y="4057560"/>
            <a:ext cx="489564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nd Training Strate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124000" y="5113440"/>
            <a:ext cx="547236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and Development Progr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1"/>
          <p:cNvSpPr/>
          <p:nvPr/>
        </p:nvSpPr>
        <p:spPr>
          <a:xfrm>
            <a:off x="4572000" y="2492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32"/>
          <p:cNvSpPr/>
          <p:nvPr/>
        </p:nvSpPr>
        <p:spPr>
          <a:xfrm>
            <a:off x="4572000" y="463248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1764-DBBC-4229-8A66-0FA7865A0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ional Systems Design Mode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59" name="Picture 6" descr="F1-2jpg"/>
          <p:cNvPicPr/>
          <p:nvPr/>
        </p:nvPicPr>
        <p:blipFill>
          <a:blip r:embed="rId1"/>
          <a:stretch/>
        </p:blipFill>
        <p:spPr>
          <a:xfrm>
            <a:off x="380880" y="1981080"/>
            <a:ext cx="8001000" cy="3733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460080" y="54529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3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DFC5-1C8C-4D00-B19F-263AD2DC7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7361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nal and scientific model of T&amp;D process consisting of 3 major step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needs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esign and deliver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  <a:tab algn="l" pos="795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with performance gap or itch (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  <a:tab algn="l" pos="795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D model is the basis for rest of the cou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7C5B-D86A-4E9E-88C3-9805E2E84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the training and development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&amp;D plays important role in effectiveness and competitiveness of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nvestment in human capital, with dividends for the individual, the organization, and society at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raining in Canada is discussed with added emphasis on the Quebec Training Law and its effectiveness since its in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0B72-C9E1-4686-BC8F-737BE7F47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raining and development is increased when linked to SHRM; aligned with other HR practices (and a HPWS); and tied to an organization’s busines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s instructional systems design (ISD)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oncepts to be addressed in subsequent chapters, such as needs analysis, training design and delivery, and the evaluation of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BEA6-6579-487A-B03C-F8F8CB499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699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eaning of performance management, training, development, and human resource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rganization, employee, and societal benefits of T&amp;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current state of T&amp;D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environmental and organizational context of T&amp;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eaning of strategic human resources management and strategic T&amp;D, and high performance work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nstructional systems design model of T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511D-333A-47AE-B338-F446A83BF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and Development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 on a daily basis require us or someone else to demonstrate effective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these situations varies from minor to extremely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performance often comes from some form of education, learning, training, o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link between effective performance and individual and organizational effective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6225-285F-4891-BF21-5A3ABBA92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of establishing performance expectations with employ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ing interventions and programs to improve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 success of interventions and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1-4.jpg"/>
          <p:cNvPicPr/>
          <p:nvPr/>
        </p:nvPicPr>
        <p:blipFill>
          <a:blip r:embed="rId1"/>
          <a:stretch/>
        </p:blipFill>
        <p:spPr>
          <a:xfrm>
            <a:off x="3286080" y="4500720"/>
            <a:ext cx="251784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1F8F-534E-4CB9-AF16-02516C1C9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4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Diagram 5"/>
          <p:cNvGrpSpPr/>
          <p:nvPr/>
        </p:nvGrpSpPr>
        <p:grpSpPr>
          <a:xfrm>
            <a:off x="2670120" y="2565360"/>
            <a:ext cx="3577320" cy="3600000"/>
            <a:chOff x="2670120" y="2565360"/>
            <a:chExt cx="3577320" cy="3600000"/>
          </a:xfrm>
        </p:grpSpPr>
        <p:sp>
          <p:nvSpPr>
            <p:cNvPr id="73" name="_s1028"/>
            <p:cNvSpPr/>
            <p:nvPr/>
          </p:nvSpPr>
          <p:spPr>
            <a:xfrm>
              <a:off x="3450960" y="2565360"/>
              <a:ext cx="2014200" cy="2560320"/>
            </a:xfrm>
            <a:custGeom>
              <a:avLst/>
              <a:gdLst>
                <a:gd name="textAreaLeft" fmla="*/ 0 w 2014200"/>
                <a:gd name="textAreaRight" fmla="*/ 2014560 w 2014200"/>
                <a:gd name="textAreaTop" fmla="*/ 0 h 2560320"/>
                <a:gd name="textAreaBottom" fmla="*/ 2560680 h 256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29"/>
            <p:cNvSpPr/>
            <p:nvPr/>
          </p:nvSpPr>
          <p:spPr>
            <a:xfrm rot="7200000">
              <a:off x="3454560" y="3445200"/>
              <a:ext cx="2560680" cy="201420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030"/>
            <p:cNvSpPr/>
            <p:nvPr/>
          </p:nvSpPr>
          <p:spPr>
            <a:xfrm rot="14400000">
              <a:off x="2901600" y="3447000"/>
              <a:ext cx="2560680" cy="201420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1"/>
            <p:cNvSpPr/>
            <p:nvPr/>
          </p:nvSpPr>
          <p:spPr>
            <a:xfrm>
              <a:off x="5008680" y="3032280"/>
              <a:ext cx="80892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stablis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xpect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053240" y="5137560"/>
              <a:ext cx="80856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terven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033"/>
            <p:cNvSpPr/>
            <p:nvPr/>
          </p:nvSpPr>
          <p:spPr>
            <a:xfrm>
              <a:off x="3097080" y="3034080"/>
              <a:ext cx="808560" cy="10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onitor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EB67-9359-4C5E-A32F-2E3561B13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set of interventions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cquisition of KSAs to improve performance in one’s current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cquisition of KSAs required to perform future job responsibilities and in the long-term achievement of individual career goals and organizational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5726-4F25-40D7-AA6E-8BBD47B90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64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Resources Developme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atic and planned activities that are designed by an organization to provide employees with an opportunity to learn necessary skills to meet current and future job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61A7-0E1E-44E8-AB50-33D330429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5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benef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organizational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recruitment and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1-8.jpg"/>
          <p:cNvPicPr/>
          <p:nvPr/>
        </p:nvPicPr>
        <p:blipFill>
          <a:blip r:embed="rId1"/>
          <a:stretch/>
        </p:blipFill>
        <p:spPr>
          <a:xfrm>
            <a:off x="5786280" y="1428840"/>
            <a:ext cx="2862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> Saks/Haccoun 5ed</dc:description>
  <dc:language>en-US</dc:language>
  <cp:lastModifiedBy>Karina</cp:lastModifiedBy>
  <dcterms:modified xsi:type="dcterms:W3CDTF">2009-10-30T18:15:30Z</dcterms:modified>
  <cp:revision>125</cp:revision>
  <dc:subject/>
  <dc:title>Ch1  PPT Slides</dc:title>
</cp:coreProperties>
</file>